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B018-FE93-4DBB-B62B-731E430DB33E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BB29-5DDC-4974-AA15-832FDE16EEAB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AA31-B934-444E-BB3F-A88167CBD7C2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08C4-8868-4BFF-8E7C-283922186A71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BE9B-F87F-4314-8765-1F32881D1958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58F7-0E08-478B-91B5-DF60822CB128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0FE-3DD1-402E-9E4D-A2BCDD0D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278-5470-4CE4-8F1C-06167BE6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87B-9C14-4CA0-B858-D51ECE57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BE6-7FCE-4CBF-9A9E-D9AFC41B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79F-CE76-45CE-84F8-E9D7BAFA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2CD-935C-429F-AD98-7D4467CE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DD2-70BF-415F-884E-6658AECF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A37-C791-46E7-ABA0-0FC566BD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EC3-7C1F-4BE6-99CE-9DF964D7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C32-3A81-4B81-91F6-C4A0681F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6B0-4416-42D2-8456-E5A35B67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80F-445F-4478-973E-236C0CC8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8B30-6D7A-462B-9148-05358A68EAD8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igration and Mental Health</a:t>
            </a:r>
            <a:br>
              <a:rPr sz="4400"/>
            </a:b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ulture, Change and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2997000"/>
            <a:ext cx="64008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process, predicaments and pos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Jubilee Raji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Consultant Psychiatr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University of Otago, Student Health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198960" y="3573360"/>
            <a:ext cx="28857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58920"/>
            <a:ext cx="82296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astoral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ulture brokers or cultural interpr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uppor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arly inter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796000" y="1916280"/>
            <a:ext cx="2652840" cy="37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1752480" y="27432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438280" y="22860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714680" y="1785960"/>
            <a:ext cx="7279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727280" y="438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rcRect l="29341" t="16469" r="16405" b="7186"/>
          <a:stretch/>
        </p:blipFill>
        <p:spPr>
          <a:xfrm>
            <a:off x="865080" y="241200"/>
            <a:ext cx="5938920" cy="5796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8"/>
          <p:cNvSpPr/>
          <p:nvPr/>
        </p:nvSpPr>
        <p:spPr>
          <a:xfrm>
            <a:off x="898920" y="6129360"/>
            <a:ext cx="6455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700" spc="-1" strike="noStrike">
                <a:solidFill>
                  <a:srgbClr val="000000"/>
                </a:solidFill>
                <a:latin typeface="Arial"/>
              </a:rPr>
              <a:t>American Field Services (n.d.) Orientation Handbook Resourc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700" spc="-1" strike="noStrike">
                <a:solidFill>
                  <a:srgbClr val="000000"/>
                </a:solidFill>
                <a:latin typeface="Arial"/>
              </a:rPr>
              <a:t>AFS Intercultural/International Programmes In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95280" y="980640"/>
            <a:ext cx="86090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lex psychological process with significant and lasting effects on an individual’s ident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volves profound losses – family, familiar food, native music, unquestioned social customs, language, familiar landscap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dden change from “an average expectable environment” to a strange and unpredictable o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newed opportunity for psychic growth and alte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684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hannels of self-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dentification models, different superego dictates and fresh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xture of pain over losses inherent in the process and anxiety consequent upon altered external and internal reality mobilises a mourn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migration and Identity – Turmoil, Treatment and Transformation. Salman Akhtar,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387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8922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cets of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ge at mig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ccess to refuel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re-migration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Nature of the country l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agnitude of cultural dif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ception by host cul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Experiences of efficacy in the host cul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k Factors for Mental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64600" y="1844280"/>
            <a:ext cx="576108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-migration experience, migration and sett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umatic experiences or prolonged stress prior to or during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adolescent or elderly at the time of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ion from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bility to speak the language of the host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judice and discrimination in the receiving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movingpeoplechangingplaces.org/uploads/images/main575/identity.jpg"/>
          <p:cNvPicPr/>
          <p:nvPr/>
        </p:nvPicPr>
        <p:blipFill>
          <a:blip r:embed="rId1"/>
          <a:stretch/>
        </p:blipFill>
        <p:spPr>
          <a:xfrm>
            <a:off x="6227640" y="1916280"/>
            <a:ext cx="265428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k Factors for Mental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38120" y="1844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socio-economic status and even more critically, a drop in personal socio-economic status following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recognition of occupational qual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from persons of a similar cultural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of accul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limidis et al. 199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664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Double Jeopardy for Migrating Adolesc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200" spc="-1" strike="noStrike" u="sng">
                <a:solidFill>
                  <a:srgbClr val="000000"/>
                </a:solidFill>
                <a:uFillTx/>
                <a:latin typeface="Arial"/>
              </a:rPr>
              <a:t>Developmental tasks, and tasks of accult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ge a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ulture shock – personal, social and acade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ccess to refu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re-migration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ature of the country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agnitude of cultural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Reception by host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periences of efficacy in the host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5991120" y="4581360"/>
            <a:ext cx="2586240" cy="1936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991120" y="2206800"/>
            <a:ext cx="2586240" cy="19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dentity Transformation Following Immi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rom Love or Hate to Ambival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rom Near or Far to Optimal dis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rom Yesterday or Tomorrow to To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rom Yours or Mine to O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600" spc="-1" strike="noStrike">
                <a:solidFill>
                  <a:srgbClr val="000000"/>
                </a:solidFill>
                <a:latin typeface="Arial"/>
              </a:rPr>
              <a:t>Salman Akh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http://ecx.images-amazon.com/images/I/51Blv%2B6C-yL._SY344_BO1,204,203,200_.jpg"/>
          <p:cNvPicPr/>
          <p:nvPr/>
        </p:nvPicPr>
        <p:blipFill>
          <a:blip r:embed="rId1"/>
          <a:stretch/>
        </p:blipFill>
        <p:spPr>
          <a:xfrm>
            <a:off x="6610320" y="2276640"/>
            <a:ext cx="20764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08:21:12Z</dcterms:created>
  <dc:creator>juby</dc:creator>
  <dc:description/>
  <dc:language>en-US</dc:language>
  <cp:lastModifiedBy>Jubilee</cp:lastModifiedBy>
  <dcterms:modified xsi:type="dcterms:W3CDTF">2015-08-24T19:11:15Z</dcterms:modified>
  <cp:revision>43</cp:revision>
  <dc:subject/>
  <dc:title>Teenagers in Transition</dc:title>
</cp:coreProperties>
</file>